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D34-F7D1-4ECC-81BD-CFCDBA6E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372-F9C0-4691-929A-F0A48044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5EA-EA96-499F-B1D2-BF7C85AD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E65-BEE7-475B-9570-566B26BB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EE3-00A2-4A95-B714-01A6B68B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9A8-AC98-46C1-A742-FE2478A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FFA-9DCA-4A22-8FBA-EA3C1F6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D8D-B299-49E0-8CA1-C78FAEC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49A-AB67-47C7-B51A-D504F3FB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18C-B8CE-4DD5-B3A2-CE22959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37D-32A1-4D33-BBC5-6062A93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8D7-3A8D-4E8C-9F85-E592D15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B1D-2466-4A3D-91FC-F9E5881E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hapter 1: Essentia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88272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ow can one flee from G-d?  Is Hashem Uni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hy does Yonah Flee from his Mi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ossible answers: Yalkut Shimoni &amp; Abarvan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hy doesn’t Hashem simply destroy Yonah and find another prop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the interesting Midrash the clip brings to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What is Yonah spiritual/ psychological journ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Follow the words kum and yo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ow does Yonah encounter with the sailors cause them to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ey learn that Hashem is the true G-d as seen at the end of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18240" y="189000"/>
            <a:ext cx="2050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: What is with the F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076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page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text is arranged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astic structure our attention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of the prayer th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think is the meaning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pr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look at the word for Fis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xt what is peculiar abou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lling of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16480" y="1125360"/>
            <a:ext cx="3567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31:30Z</dcterms:created>
  <dc:creator>dzoppo</dc:creator>
  <dc:description/>
  <dc:language>en-US</dc:language>
  <cp:lastModifiedBy>Damian</cp:lastModifiedBy>
  <dcterms:modified xsi:type="dcterms:W3CDTF">2008-12-20T16:15:30Z</dcterms:modified>
  <cp:revision>2</cp:revision>
  <dc:subject/>
  <dc:title>Review of Chapter 1: Essential Questions</dc:title>
</cp:coreProperties>
</file>